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89E-C948-409C-A15D-4C98C901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941-D314-47CC-AE6F-10848D09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B72-EACE-440A-8D61-4B7A41E5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E20-85FD-4C50-85A4-5046220F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FA6D-716F-48EF-81CE-7823ABA1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462F-794D-4DE2-B125-37C0C788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E806-728C-43CF-BB6D-72CC834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2B2-A38A-4BD0-8C4E-2D8C2F2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BE8-5A99-419D-A7E5-90BF502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9535-F10E-48C3-A1BA-91552F1C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36AF-6CB9-43FD-B1FB-245B4F5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0CB-FF65-4252-BEF8-DB841E01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DECF-C615-433E-B171-DB2DC76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D81E-AFA0-46C1-8D7C-3FA8110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9521-99ED-4CDB-8F2C-345123C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612A-A62E-4317-BE1F-C087D69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1FD-C4C2-4541-8390-04E50F6C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AF8-2A5D-4837-AC49-E7B0E67D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354-F2BA-41A1-9294-2108E17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0B7-D333-49AF-9F0B-2136810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8C1-D640-419E-A9B7-17904D6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2BA-F331-4B03-ADD3-CECFA36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BF9-AB69-4E7D-93DE-E190AF7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087-1619-4106-82A3-2D3445F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BC62-6EAE-4100-8132-A4A80E1F28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0C92-3E9C-44CB-838F-7E6D600CE2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158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fornian FB"/>
              </a:rPr>
              <a:t>WORKING GROUP ON THE TEACHING PROFESSION</a:t>
            </a:r>
            <a:br>
              <a:rPr sz="4000"/>
            </a:br>
            <a:r>
              <a:rPr b="1" lang="en-GB" sz="1800" spc="-1" strike="noStrike">
                <a:solidFill>
                  <a:srgbClr val="000000"/>
                </a:solidFill>
                <a:latin typeface="Californian FB"/>
              </a:rPr>
              <a:t>ROUNDTABL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fornian FB"/>
              </a:rPr>
              <a:t>PROFESSIONAL DEVELOPMENT OF TEAC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fornian FB"/>
              </a:rPr>
              <a:t>Pres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fornian FB"/>
              </a:rPr>
              <a:t>Dr Henry Kalu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fornian FB"/>
              </a:rPr>
              <a:t>Coordinator, WG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Californian FB"/>
              </a:rPr>
              <a:t>SCHOOL-SELF EVALUATION: A PATH TO A BETTER SCHOOL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Delivery of Qualit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Schoo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Continuing Assessment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Organisation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Tea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Fill up Gaps left by Inspector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Communit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Californian FB"/>
              </a:rPr>
              <a:t>SCHOOL-SELF EVALUATION: A PATH TO A BETTER SCHOOL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TRAINING ACTIVIT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1999- Gambia and Ghana (30 offic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2000- Caribbean (6 Countries-30 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2002- Southern Africa(8 Countries-35 </a:t>
            </a:r>
            <a:r>
              <a:rPr b="0" lang="en-GB" sz="3200" spc="-1" strike="noStrike">
                <a:solidFill>
                  <a:srgbClr val="000000"/>
                </a:solidFill>
                <a:latin typeface="Californian F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2002- East Africa (3 Schools- 50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2003- Save the Children (Schools-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Californian FB"/>
              </a:rPr>
              <a:t>SCHOOL-SELF EVALUATION: A PATH TO A BETTER SCHOOL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ACHIE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Capacity Building- more than 110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Introduction to 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Sharing Knowledge 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SCHOOL-SELF EVALUATION: A PATH TO A BETTER SCHOOL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ISSUES OF CONCER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Clear Policy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Inspectors/Education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Embedding into Schoo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Valid Performance Indicators/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Availability of Reli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Training for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fornian FB"/>
              </a:rPr>
              <a:t>Resources to Support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2:07:44Z</dcterms:created>
  <dc:creator>H.Kaluba</dc:creator>
  <dc:description/>
  <dc:language>en-US</dc:language>
  <cp:lastModifiedBy>HENRY</cp:lastModifiedBy>
  <dcterms:modified xsi:type="dcterms:W3CDTF">2003-11-30T19:32:21Z</dcterms:modified>
  <cp:revision>11</cp:revision>
  <dc:subject/>
  <dc:title>WORKING GROUP ON THE TEACHING PROFESSION</dc:title>
</cp:coreProperties>
</file>